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941C-97D4-4D0E-A678-2DE6E313C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A998-0EB4-4699-B427-5A01B7A0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DDE7-5749-482B-8B0B-51F770C4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2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016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2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016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E6DA-7CA0-404B-B065-F17DACFC7F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AB75-401C-4DA5-80AA-DB2C766B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2056-2988-473B-B587-F5A0E0AF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A8DD-FD33-4947-A349-2904888F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B541-AE5E-4A54-8779-6B9D69D0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0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4CC6-57F3-4107-B3A2-41BCD85C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3663-6BC5-4E4F-9978-91B4FC5C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FC3C-5270-42C0-A7F1-FEE693D6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E3F7-7382-48FE-9468-A0143BBB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4600" y="7008480"/>
            <a:ext cx="2492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26/05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652920" y="7008840"/>
            <a:ext cx="3386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662600" y="7008480"/>
            <a:ext cx="2492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EE608-A93E-4F24-A18D-6E949A0855FC}" type="slidenum">
              <a:rPr b="0" lang="it-IT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ttcaronemg@libero.i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45320" y="0"/>
            <a:ext cx="1440" cy="7561440"/>
          </a:xfrm>
          <a:prstGeom prst="line">
            <a:avLst/>
          </a:prstGeom>
          <a:ln w="19080">
            <a:solidFill>
              <a:srgbClr val="1e1c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08760" y="6445080"/>
            <a:ext cx="35877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onvegno E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Bari, 8 Giugno 2015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ula Balestrazzi, A.O. Policlin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4760" y="352440"/>
            <a:ext cx="31435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rediti E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ono stati richesti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diti formativ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er: medici, psicologi e infermieri. Il rilascio della certificazione ECM è subordinato all’effettiva frequenza dell’intero program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ttestato di partecip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arà rilasciato solo al termine del Conveg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de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 convegno  si terrà presso l’aula “Balestrazzi” Az. Osp. Policl. B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’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8 Giugno 2015, ore 08,30-17,30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cri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l convegno è gratuito, ma è necessaria l'iscrizione per il limite di  posti disponibil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viare via email la Scheda d’Iscrizione a: 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1"/>
              </a:rPr>
              <a:t>dottcaronemg@libero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semblea Soci SIPO-PU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 termine dell’evento ore 17,30 si terrà l’Assemblea dei Soci  SIPO-Pugl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fotel:   0805592268/3495941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440" y="495360"/>
            <a:ext cx="255744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l dolore è un’esperienza complessa, dinamica e multideterminata, alla quale occorre approcciarsi con competenze umane e professionali multidisciplina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5273640"/>
            <a:ext cx="2571840" cy="21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MITATO SCIENTI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rof. Orlando Todarel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Dott.ssa Mariagrazua Car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Dott.ssa Rossana De Feud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SEGRETERIA ORGANIZZA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Ufficio Formazione Az. Osp. Policl. Ba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67680" y="279360"/>
            <a:ext cx="1071720" cy="87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113600" y="2649600"/>
            <a:ext cx="3181320" cy="37321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31760" y="2565360"/>
            <a:ext cx="2784600" cy="2641680"/>
            <a:chOff x="131760" y="2565360"/>
            <a:chExt cx="2784600" cy="2641680"/>
          </a:xfrm>
        </p:grpSpPr>
        <p:sp>
          <p:nvSpPr>
            <p:cNvPr id="49" name=""/>
            <p:cNvSpPr/>
            <p:nvPr/>
          </p:nvSpPr>
          <p:spPr>
            <a:xfrm>
              <a:off x="131760" y="2565360"/>
              <a:ext cx="2784600" cy="264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imes New Roman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imes New Roman"/>
                </a:rPr>
                <a:t>Medi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Times New Roman"/>
                </a:rPr>
                <a:t>Cattoli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2638440"/>
              <a:ext cx="2784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PATROCI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44520" y="3065400"/>
              <a:ext cx="2506320" cy="2077920"/>
              <a:chOff x="344520" y="3065400"/>
              <a:chExt cx="2506320" cy="207792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344520" y="3993480"/>
                <a:ext cx="1425600" cy="542160"/>
                <a:chOff x="344520" y="3993480"/>
                <a:chExt cx="1425600" cy="54216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916200" y="4066200"/>
                  <a:ext cx="853920" cy="39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OMCe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B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4520" y="3993480"/>
                  <a:ext cx="586080" cy="54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" name=""/>
              <p:cNvSpPr/>
              <p:nvPr/>
            </p:nvSpPr>
            <p:spPr>
              <a:xfrm>
                <a:off x="1200960" y="3065400"/>
                <a:ext cx="164052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360" rIns="144360" tIns="72000" bIns="72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it-IT" sz="1200" spc="-1" strike="noStrike">
                    <a:solidFill>
                      <a:srgbClr val="005a18"/>
                    </a:solidFill>
                    <a:latin typeface="Times New Roman"/>
                  </a:rPr>
                  <a:t>Società Italiana di Psico-Oncolo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it-IT" sz="1200" spc="-1" strike="noStrike">
                    <a:solidFill>
                      <a:srgbClr val="005a18"/>
                    </a:solidFill>
                    <a:latin typeface="Times New Roman"/>
                  </a:rPr>
                  <a:t>Nazionale e de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1" lang="it-IT" sz="1200" spc="-1" strike="noStrike">
                    <a:solidFill>
                      <a:srgbClr val="005a18"/>
                    </a:solidFill>
                    <a:latin typeface="Times New Roman"/>
                  </a:rPr>
                  <a:t>Sezione Pugl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43880" y="4566240"/>
                <a:ext cx="46620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1773720" y="4566240"/>
                <a:ext cx="107712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it-IT" sz="1000" spc="-1" strike="noStrike">
                    <a:solidFill>
                      <a:srgbClr val="0000ff"/>
                    </a:solidFill>
                    <a:latin typeface="Times New Roman"/>
                  </a:rPr>
                  <a:t>Ordin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it-IT" sz="1000" spc="-1" strike="noStrike">
                    <a:solidFill>
                      <a:srgbClr val="0000ff"/>
                    </a:solidFill>
                    <a:latin typeface="Times New Roman"/>
                  </a:rPr>
                  <a:t>degli Psicologi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it-IT" sz="1000" spc="-1" strike="noStrike">
                    <a:solidFill>
                      <a:srgbClr val="0000ff"/>
                    </a:solidFill>
                    <a:latin typeface="Times New Roman"/>
                  </a:rPr>
                  <a:t>Regione Pugli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6">
                <a:lum bright="6000"/>
              </a:blip>
              <a:stretch/>
            </p:blipFill>
            <p:spPr>
              <a:xfrm>
                <a:off x="415440" y="3138120"/>
                <a:ext cx="737640" cy="53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" name=""/>
          <p:cNvSpPr/>
          <p:nvPr/>
        </p:nvSpPr>
        <p:spPr>
          <a:xfrm>
            <a:off x="3203640" y="6353280"/>
            <a:ext cx="342900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Brochure e Scheda d’Iscrizione scaricabili 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http://www.siponazionale.it/source/sezione_pugli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www.facebook.com/PsiconcologiaPug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6840" y="1352520"/>
            <a:ext cx="3714840" cy="10958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LA TERAPIA DEL DOLOR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ASPETTI MEDICI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PSICOLOG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bed"/>
            </a:gs>
            <a:gs pos="100000">
              <a:srgbClr val="7b79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03680" y="2422440"/>
            <a:ext cx="319716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I SE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i="1" lang="it-IT" sz="1400" spc="-1" strike="noStrike">
                <a:solidFill>
                  <a:srgbClr val="ff0000"/>
                </a:solidFill>
                <a:latin typeface="Times New Roman"/>
              </a:rPr>
              <a:t>Moderatori:  M. Carone, R.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,30  Dolore: il paziente oncolo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iccardo To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,3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olore fisico: aspetti psicologici e rel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ariagrazia Ca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,0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l dolore psichico in oncologia: paziente, familiari, ope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ossana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,3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iscu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2,00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avoro in piccoli grup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ossana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3,30  Pausa pran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1065240"/>
            <a:ext cx="56563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PRES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SALUTO AUTOR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tt. Antonio Di Gioia, Presidente Ordine degli Psicologi Pu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of. Orlando Todarello, Direttore U.O.C. Psichia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760" y="1208160"/>
            <a:ext cx="319896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360" rIns="117360" tIns="58680" bIns="58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rlando Todar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psichiatra, Università degli Studi di B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iccardo To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psichiatra, Università degli Studi di 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ariagrazia Ca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sicologa-psicoterapeuta, UOC Psichiatria AO Policlinico, B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ossana De Feu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sicologa-psicoterapeuta, Oncologia Medica PO San Paolo ASL BA, Bari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rancesca Rom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sicologa-psicoterapeuta, Servizio Sperimentale di Psicologia Oncologica, IRCCS Istituto Tumori “Giovanni Paolo II”, B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ilomena Punt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cercatore Medico Anestesista, Università degli Studi di B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ennaro Cormì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ginecologo, U.O.C. Ginecologia Onc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rancesco Silvest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co Chirurgo Ematologo, U.O.C. Oncologia Medic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342960" y="281160"/>
            <a:ext cx="4680" cy="6929280"/>
          </a:xfrm>
          <a:prstGeom prst="line">
            <a:avLst/>
          </a:prstGeom>
          <a:ln w="12600">
            <a:solidFill>
              <a:srgbClr val="1e1c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00760" y="422280"/>
            <a:ext cx="2403360" cy="4255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00000"/>
                </a:solidFill>
                <a:latin typeface="Aharoni"/>
              </a:rPr>
              <a:t>PROGRAM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46880" y="2422440"/>
            <a:ext cx="298620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d60000"/>
                </a:solidFill>
                <a:latin typeface="Times New Roman"/>
                <a:ea typeface="Calibri"/>
              </a:rPr>
              <a:t>II SE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400" spc="-1" strike="noStrike">
                <a:solidFill>
                  <a:srgbClr val="d60000"/>
                </a:solidFill>
                <a:latin typeface="Times New Roman"/>
                <a:ea typeface="Calibri"/>
              </a:rPr>
              <a:t>Moderatori: G. Cormìo, F. Silvest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5,00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rventi psicologici efficaci nella gestione del d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rancesca Rom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5,30 La gestione della terapia del dolore nelle varie fasi della malattia onc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ilomena Punt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6,00  Discu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6,30  Compilazione questionario E.C.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680" y="379440"/>
            <a:ext cx="2786040" cy="7002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haroni"/>
              </a:rPr>
              <a:t>Relatori e Mode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2320" y="6923160"/>
            <a:ext cx="4260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30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ssemblea Dei Soci Sipo-Pu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